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0B0A-34B8-4A14-9042-1A2B00BBF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49E9-2134-42AE-BA02-BE8E0F5CB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CB8B-CB49-4F3C-95A5-103FE1FF0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250F-7F58-4BFA-8F5B-233835853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71DF-F2D5-48AA-BC1A-1DC3EC938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890E-8FB2-45D3-A041-680BDBB6C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2F13-15CE-40FA-963D-44B1D7F15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F38B-0FF0-4F88-BB93-883E93736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BD5D-1A6F-4270-97AC-68C5F9F50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F0FF-65D9-4C71-B186-B7B739BF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9EEB-D68D-4333-9BB1-B5E3ABA1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18D0-A304-4586-8623-FB03FCE2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82DA5-57F9-442B-B7AC-01FF552B7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BDECF-4EFE-4E93-945D-9C8EDF822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Заголовок 5"/>
          <p:cNvSpPr/>
          <p:nvPr/>
        </p:nvSpPr>
        <p:spPr>
          <a:xfrm>
            <a:off x="457200" y="274680"/>
            <a:ext cx="8229600" cy="57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428760" y="986760"/>
            <a:ext cx="8286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ОМЕТ  21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реван – 20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гентство «Узстандарт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9F884-7461-40C3-947B-5B12D7BE8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Прямоугольник 2"/>
          <p:cNvSpPr/>
          <p:nvPr/>
        </p:nvSpPr>
        <p:spPr>
          <a:xfrm>
            <a:off x="395280" y="1285920"/>
            <a:ext cx="83185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стреч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руководителем проек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ддержка развития  инфраструктуры качества в Центральной  Аз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»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-ном Франк Шмидт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экспертам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 2010 г., Ташкент, агентство «Узстандарт»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36C1C-0EBE-4322-A710-93C105E91B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250920" y="64296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2293560" y="2286000"/>
            <a:ext cx="4618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Научно-методические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учебные пособ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FBE14-38EA-40E4-864F-5A20F867B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Прямоугольник 2"/>
          <p:cNvSpPr/>
          <p:nvPr/>
        </p:nvSpPr>
        <p:spPr>
          <a:xfrm>
            <a:off x="428760" y="571680"/>
            <a:ext cx="84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357120" y="500040"/>
            <a:ext cx="8501040" cy="564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УЗБЕКСКОЕ АГЕНТСТВО СТАНДАРТИЗАЦИИ, МЕТРОЛОГИИ И СЕРТИФИК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.Б. Латипов, О.Ш. Хаким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ЦЕНКА НЕОПРЕДЕЛЕННОСТИ ИЗМЕРЕНИ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ЕПЛОФИЗИЧЕСКИХ СВОЙСТВ ВОЛОКНИСТЫХ  МАТЕРИАЛ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ашкен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здательство Академии наук РУз «ФАН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10 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750960" y="1465560"/>
            <a:ext cx="7566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НЭ Уз выполняет исследования по государственному гранту №15-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Исследование, совершенствование и сличение национальных исходных эталонов Республики Узбекистан в  рамках КООМЕТ для подготовки к Соглашению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IPM MRA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Срок выполнения 2011 г.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00BAE-0820-4646-9592-AF4D62E98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1326240" y="2478240"/>
            <a:ext cx="6525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СПАСИБО  ЗА  ВНИМА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ВОПРОСЫ </a:t>
            </a:r>
            <a:r>
              <a:rPr b="1" lang="en-US" sz="3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F9FC3-9C2B-4034-AD66-D68A824D9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Прямоугольник 3"/>
          <p:cNvSpPr/>
          <p:nvPr/>
        </p:nvSpPr>
        <p:spPr>
          <a:xfrm>
            <a:off x="642960" y="2259000"/>
            <a:ext cx="7858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ЕДСТАВИТЕЛ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ГЕНТСТВА «УЗСТАНДАРТ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ИНЯЛИ УЧАСТ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258920" y="1039680"/>
            <a:ext cx="66261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45-заседании Комитета МОЗ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5-ом заседании Комитета по метрологии Межрегиональной ассоциации по стандартизации (МАС),  (2010 г., г. Анталья, Турция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20 - заседании Комитета КООМЕТ и в 8 - заседании Объединенного Комитета КООМЕТ по эталонам       (2010 г., г. Астана, Казахстан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74840" y="498240"/>
            <a:ext cx="812952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 11-ом заседании Технического комитета 2 «Законодательная метрология» КООМЕТ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(22 – 23.09.2010, Словацкий метрологический институт, Братислава, Словакия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 заседании ТК 4  КООМЕТ «Информация и обучение» и подкомитета ПК4.5 «Содействие в развитии основ метрологической инфраструктуры стран-участниц КООМЕТ» (2010 г., г. Харьков, Украина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 8-м заседание ТК 1.1 КООМЕТ «Общие вопросы измерений» (2010 г., г. Санкт-Петербург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FC58C-C66F-4334-BF30-463E0B0A4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"/>
          <p:cNvSpPr/>
          <p:nvPr/>
        </p:nvSpPr>
        <p:spPr>
          <a:xfrm>
            <a:off x="357120" y="671040"/>
            <a:ext cx="85726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еминар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а пути к международному признанию в области метролог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рганизованно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Германским физико-техническим институтом (РТВ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рамках регионального проек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ддержка в развитии инфраструктуры качества в странах Центральной Азии с особым учетом метрологии и аккредитац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ушанбе,  2010 г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6E3C7-7F45-42AD-95C3-76972DBD7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"/>
          <p:cNvSpPr/>
          <p:nvPr/>
        </p:nvSpPr>
        <p:spPr>
          <a:xfrm>
            <a:off x="500040" y="801720"/>
            <a:ext cx="82868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боте семинара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зличия между понятием калибровка и поверка» (Армения, 2010 г.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учения Аудиторов КООМЕТ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олдова, 2010 г.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обучающем семинаре по линии КООМЕТ, организованном РТВ на тем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Онлайн редакторы веб-портала КООМЕТ»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826920" y="981000"/>
            <a:ext cx="7678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8-м Международном научно-техническом семинаре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еопределенность измерения: научные, прикладные, нормативные и методические аспекты” (UM-201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 докладо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«НЕОПРЕДЕЛЕННОСТИ ОПРЕДЕЛЕНИЯ МЕДИ, СВИНЦА, КАДМИЯ И ЦИН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ПИЩЕВЫХ ПРОДУКТАХ И СЫРЬЕ ПОЛЯРОГРАФИРОВАНИЕМ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E1F1C-F7AC-420D-85AB-67B4B59FF8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Прямоугольник 3"/>
          <p:cNvSpPr/>
          <p:nvPr/>
        </p:nvSpPr>
        <p:spPr>
          <a:xfrm>
            <a:off x="1071720" y="257184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ГЕНТСТВОМ «УЗСТАНДАРТ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ВЕДЕНЫ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5640" y="2532240"/>
            <a:ext cx="811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еспубликанска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аучно-практическая конференц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етрология - 201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г.Ташкент, Узбекистан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3T04:13:11Z</dcterms:created>
  <dc:creator>ЦПК</dc:creator>
  <dc:description/>
  <dc:language>en-US</dc:language>
  <cp:lastModifiedBy>user</cp:lastModifiedBy>
  <dcterms:modified xsi:type="dcterms:W3CDTF">2011-03-31T08:00:12Z</dcterms:modified>
  <cp:revision>326</cp:revision>
  <dc:subject/>
  <dc:title>Слайд 1</dc:title>
</cp:coreProperties>
</file>